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FEB-866F-4D26-B833-753993F4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DC7-4EFE-4216-B7BC-EFF71AE5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6B2-BBAA-4322-8D55-EC8C8AB1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1A1-02DF-4D4D-AF45-D4229A9A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E7C-E892-42FD-B135-A5145AE1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FF8-31B9-4334-AAC5-11E0B6CD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6AB-FB60-4096-8C3D-8DEAC1E9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750-084A-430C-8B39-68ABB02A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E95-181A-4756-A4AE-D31EEE74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343-B31C-4767-A69E-B6F7F10C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405-4CF8-4AEE-9AA4-DB81ABF9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93F-3F86-4CA7-8974-C8301B1A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34DE-2F78-4576-8753-3A397E373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2520" y="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33360"/>
            <a:ext cx="8229600" cy="59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0000"/>
                </a:solidFill>
                <a:latin typeface="Comic Sans MS"/>
              </a:rPr>
              <a:t>I can be the boss of m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0000"/>
                </a:solidFill>
                <a:latin typeface="Comic Sans MS"/>
              </a:rPr>
              <a:t>angry feel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18288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6440" y="4219560"/>
            <a:ext cx="188280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60760" y="4105440"/>
            <a:ext cx="1828800" cy="1554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175440" y="4105440"/>
            <a:ext cx="1942920" cy="163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032440" y="2390760"/>
            <a:ext cx="201780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03160" y="4105440"/>
            <a:ext cx="1600200" cy="1347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769080" y="2505240"/>
            <a:ext cx="1600200" cy="1360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546360" y="2276640"/>
            <a:ext cx="1581120" cy="134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060640" y="2733840"/>
            <a:ext cx="17478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9536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60280"/>
            <a:ext cx="8424720" cy="318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top and think about the best thing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66720" y="1974960"/>
            <a:ext cx="1365120" cy="116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67200" y="1860480"/>
            <a:ext cx="1355400" cy="116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3573360"/>
            <a:ext cx="8424720" cy="306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Yell nasty things at the person who upset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067200" y="5070600"/>
            <a:ext cx="1365120" cy="116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010120" y="5070600"/>
            <a:ext cx="136512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9536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60280"/>
            <a:ext cx="822960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ell the person why I am 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346560"/>
            <a:ext cx="8229600" cy="30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Hit the person who upset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4200" y="1974960"/>
            <a:ext cx="13539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53200" y="2089080"/>
            <a:ext cx="1209600" cy="1028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038320" y="4978440"/>
            <a:ext cx="1441440" cy="122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96000" y="5070600"/>
            <a:ext cx="1333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9536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60280"/>
            <a:ext cx="822960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Go for a walk to calm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346560"/>
            <a:ext cx="8229600" cy="30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row something at the person who upset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96000" y="5070600"/>
            <a:ext cx="1333440" cy="113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38320" y="1860480"/>
            <a:ext cx="1468440" cy="1257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09800" y="4978440"/>
            <a:ext cx="1430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9536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60280"/>
            <a:ext cx="822960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alk to a friend or adult about my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46560"/>
            <a:ext cx="8229600" cy="30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Run away from home or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09800" y="1860480"/>
            <a:ext cx="1342800" cy="1133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524400" y="1860480"/>
            <a:ext cx="1342800" cy="113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152800" y="5070600"/>
            <a:ext cx="1323720" cy="1133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867120" y="4946760"/>
            <a:ext cx="1684440" cy="1438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039000" y="4925880"/>
            <a:ext cx="1500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9536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60280"/>
            <a:ext cx="822960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ake a big breath and count to 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3346560"/>
            <a:ext cx="8229600" cy="30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I can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mash the toy of the person who upset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67000" y="5070600"/>
            <a:ext cx="1333440" cy="1133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095720" y="5070600"/>
            <a:ext cx="1333440" cy="113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042920" y="184464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4360" y="1844640"/>
            <a:ext cx="5543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Foundation Style"/>
              </a:rPr>
              <a:t>1 2 3 4 5 6 7 8 9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2520" y="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33360"/>
            <a:ext cx="8229600" cy="59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hen I feel angry there are people who can help me to feel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 can help myself feel better when I try to use some of these things to stop the angry feel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09800" y="3076560"/>
            <a:ext cx="2286000" cy="192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10120" y="3076560"/>
            <a:ext cx="2171880" cy="1846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67200" y="4105440"/>
            <a:ext cx="2151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T User</cp:lastModifiedBy>
  <dcterms:modified xsi:type="dcterms:W3CDTF">2005-09-06T02:47:11Z</dcterms:modified>
  <cp:revision>2</cp:revision>
  <dc:subject/>
  <dc:title>PowerPoint Presentation</dc:title>
</cp:coreProperties>
</file>